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7A78-B5B6-43FD-8675-EEEEFC177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F806-CFA8-47BF-96BD-D406BCC72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DAA4-9DAC-4375-81B8-4A5FDD04A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B47C-C3DD-456A-83A2-51B7D9292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866B3-E30E-490D-9BA7-C2D59DE9A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6B654-0793-46F7-8BCE-F2043E3E9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2386B-33D2-47EF-9CAE-28D0018EB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44914-91FC-4133-9A86-1FDB9056C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FEFD9-982D-477B-B548-E4E5C8FD0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0260F-F270-4143-AC21-6A5514244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79233-BBFE-4837-818E-E50497D79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20BA-F395-47EB-9CFE-EE3EECBFC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D0399-4602-4416-8B5C-FECD35AF9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29924-8109-4447-88CB-1CC561A91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654C2-7B84-4F76-883F-D4F889863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38B79-0211-436A-91C3-971730538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E149D-E664-4869-B2AA-3AC533070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9A32-F1E0-410B-96C1-47969E9FA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2321-07AD-49F8-8A42-D2B105911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ED6F-D0B4-44FE-834C-9D6BA81A7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CEF3-E00A-4F33-820A-D076ACCDE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7589-1805-42E4-A81E-436CD1828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D311-9EF0-4995-931E-F0570263F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73F2-6C46-48BE-B3D3-D20E0590F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C2CC7-1BFA-4C9D-86FE-31745A4A835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B6FF1-A7E3-4B22-809B-55EC5CC04BB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굴림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0960" y="112860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66"/>
                </a:solidFill>
                <a:latin typeface="굴림"/>
              </a:rPr>
              <a:t>전화번호부</a:t>
            </a:r>
            <a:endParaRPr b="1" lang="en-US" sz="4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5076360" y="4076280"/>
            <a:ext cx="318132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굴림"/>
              </a:rPr>
              <a:t>0492014 </a:t>
            </a:r>
            <a:r>
              <a:rPr b="1" lang="zh-CN" sz="2800" spc="-1" strike="noStrike">
                <a:solidFill>
                  <a:srgbClr val="006666"/>
                </a:solidFill>
                <a:latin typeface="굴림"/>
              </a:rPr>
              <a:t>김병관</a:t>
            </a:r>
            <a:endParaRPr b="0" lang="en-US" sz="28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6920" y="836640"/>
            <a:ext cx="792504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굴림"/>
              </a:rPr>
              <a:t>명령어 종류</a:t>
            </a:r>
            <a:endParaRPr b="1" lang="en-US" sz="40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91064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1 </a:t>
            </a:r>
            <a:r>
              <a:rPr b="1" lang="zh-CN" sz="2000" spc="-1" strike="noStrike">
                <a:solidFill>
                  <a:srgbClr val="003366"/>
                </a:solidFill>
                <a:latin typeface="굴림"/>
              </a:rPr>
              <a:t>입력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1" lang="zh-CN" sz="2000" spc="-1" strike="noStrike">
                <a:solidFill>
                  <a:srgbClr val="003366"/>
                </a:solidFill>
                <a:latin typeface="굴림"/>
              </a:rPr>
              <a:t>이름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1" lang="zh-CN" sz="2000" spc="-1" strike="noStrike">
                <a:solidFill>
                  <a:srgbClr val="003366"/>
                </a:solidFill>
                <a:latin typeface="굴림"/>
              </a:rPr>
              <a:t>전화번호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zh-CN" sz="2000" spc="-1" strike="noStrike">
                <a:solidFill>
                  <a:srgbClr val="003366"/>
                </a:solidFill>
                <a:latin typeface="굴림"/>
              </a:rPr>
              <a:t>출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zh-CN" sz="2000" spc="-1" strike="noStrike">
                <a:solidFill>
                  <a:srgbClr val="003366"/>
                </a:solidFill>
                <a:latin typeface="굴림"/>
              </a:rPr>
              <a:t>검색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1" lang="zh-CN" sz="2000" spc="-1" strike="noStrike">
                <a:solidFill>
                  <a:srgbClr val="003366"/>
                </a:solidFill>
                <a:latin typeface="굴림"/>
              </a:rPr>
              <a:t>단축번호로 검색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1" lang="zh-CN" sz="2000" spc="-1" strike="noStrike">
                <a:solidFill>
                  <a:srgbClr val="003366"/>
                </a:solidFill>
                <a:latin typeface="굴림"/>
              </a:rPr>
              <a:t>이름으로 검색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1" lang="zh-CN" sz="2000" spc="-1" strike="noStrike">
                <a:solidFill>
                  <a:srgbClr val="003366"/>
                </a:solidFill>
                <a:latin typeface="굴림"/>
              </a:rPr>
              <a:t>전화번호로 검색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1" lang="zh-CN" sz="2000" spc="-1" strike="noStrike">
                <a:solidFill>
                  <a:srgbClr val="003366"/>
                </a:solidFill>
                <a:latin typeface="굴림"/>
              </a:rPr>
              <a:t>수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5 </a:t>
            </a:r>
            <a:r>
              <a:rPr b="1" lang="zh-CN" sz="2000" spc="-1" strike="noStrike">
                <a:solidFill>
                  <a:srgbClr val="003366"/>
                </a:solidFill>
                <a:latin typeface="굴림"/>
              </a:rPr>
              <a:t>삭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6 </a:t>
            </a:r>
            <a:r>
              <a:rPr b="1" lang="zh-CN" sz="2000" spc="-1" strike="noStrike">
                <a:solidFill>
                  <a:srgbClr val="003366"/>
                </a:solidFill>
                <a:latin typeface="굴림"/>
              </a:rPr>
              <a:t>파일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save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7 </a:t>
            </a:r>
            <a:r>
              <a:rPr b="1" lang="zh-CN" sz="2000" spc="-1" strike="noStrike">
                <a:solidFill>
                  <a:srgbClr val="003366"/>
                </a:solidFill>
                <a:latin typeface="굴림"/>
              </a:rPr>
              <a:t>파일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load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8 </a:t>
            </a:r>
            <a:r>
              <a:rPr b="1" lang="zh-CN" sz="2000" spc="-1" strike="noStrike">
                <a:solidFill>
                  <a:srgbClr val="003366"/>
                </a:solidFill>
                <a:latin typeface="굴림"/>
              </a:rPr>
              <a:t>종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p:transition>
    <p:push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굴림"/>
              </a:rPr>
              <a:t>일정 </a:t>
            </a:r>
            <a:endParaRPr b="1" lang="en-US" sz="40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990720" y="3124080"/>
            <a:ext cx="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990720" y="3124080"/>
            <a:ext cx="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684360" y="2349360"/>
            <a:ext cx="7189560" cy="409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월 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째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전화번호부에 관한 정보 모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- 5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월 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째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전화번호부 대략적인 소스 설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- 5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월 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째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전화번호부 소스 설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6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월 첫째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소스 완성후 실행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6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월 둘째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미비한점과 잘못된점이 있는지 찾아보고 보완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좀 더 추가할 내용이 있으면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p:transition>
    <p:push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4976640" y="2577960"/>
            <a:ext cx="3770640" cy="37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2362320"/>
            <a:ext cx="377028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2T02:26:37Z</dcterms:created>
  <dc:creator>pc4</dc:creator>
  <dc:description/>
  <dc:language>en-US</dc:language>
  <cp:lastModifiedBy>탐구관실습실</cp:lastModifiedBy>
  <dcterms:modified xsi:type="dcterms:W3CDTF">2007-06-15T03:59:42Z</dcterms:modified>
  <cp:revision>12</cp:revision>
  <dc:subject/>
  <dc:title>MP3 Player 제작 중간 발표</dc:title>
</cp:coreProperties>
</file>