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B38-2F2A-471C-9C4D-1AFB2C37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D5D-EFFC-47E5-A494-954427CA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F8F-E02E-46F6-B268-83B8FF2C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B6F-E147-4CF5-9A61-DE9C2F1B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5D7E-ECE5-42AD-8B33-F710F44A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64F3-31AC-476B-AFFA-15BA3945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E8F2-C248-4A03-86FD-1D3DEAF4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30E3-EE0F-422B-A663-64E7AB44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B5DE-93AE-4A80-B390-9E2CFF31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8DB5-EBDB-4DC8-A0D5-05633FFA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0EFA-85B3-49CD-873B-C8FCFA80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21F-B480-45F5-B50E-5250EE66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ADE2-7FCD-4F04-B863-508362A3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22A9-C6EE-4E0E-9907-F2751255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A466-C63B-48FD-A85E-671C277A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946B-306A-4DD2-9D7E-769B75D0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524B-0AB0-4E37-8371-BEA1CC6C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325-3338-4BF8-BE47-C44ED6E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373-7D34-4A92-84ED-858351B7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BBD-A9E1-4C02-91DA-DDA6C9AA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AD9-4B3A-4D57-A7E1-51B5681B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B3B-C2BA-470D-99B5-7C32C29A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CB5-20E9-4409-8EDF-0DC8BFB7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B9C-78A8-4778-985E-D6BE4B07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3363-E9ED-4B03-BB49-140B198384E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D7EF-5979-4A72-9C15-56F077D43AB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8360" y="2276640"/>
            <a:ext cx="707364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Y강M"/>
                <a:ea typeface="HY강M"/>
              </a:rPr>
              <a:t>  </a:t>
            </a:r>
            <a:r>
              <a:rPr b="1" i="1" lang="zh-CN" sz="5400" spc="-1" strike="noStrike">
                <a:solidFill>
                  <a:srgbClr val="000000"/>
                </a:solidFill>
                <a:latin typeface="HY엽서M"/>
                <a:ea typeface="HY엽서M"/>
              </a:rPr>
              <a:t>지하철 경로 찾기</a:t>
            </a:r>
            <a:endParaRPr b="0" i="1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2560" y="3717720"/>
            <a:ext cx="67690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출발역과 도착역 입력으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어떻게 지하철을 이용하여 찾아가야 하는지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단 경로를 탐색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100" spc="-1" strike="noStrike">
                <a:solidFill>
                  <a:srgbClr val="000000"/>
                </a:solidFill>
                <a:latin typeface="HY엽서M"/>
                <a:ea typeface="HY엽서M"/>
              </a:rPr>
              <a:t>데이터 입력</a:t>
            </a:r>
            <a:endParaRPr b="0" i="1" lang="en-US" sz="6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49360"/>
            <a:ext cx="76932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ine 1 ~ 5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ine 1 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구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~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봉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2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개 역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ine 2 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구로공단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~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서울대입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4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개 역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ine 3 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홍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~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19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개 역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ine 4 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당고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~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공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29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개 역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ine 5 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목동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~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장한평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24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개 역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4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개 역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3000" y="901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100" spc="-1" strike="noStrike">
                <a:solidFill>
                  <a:srgbClr val="000000"/>
                </a:solidFill>
                <a:latin typeface="HY엽서M"/>
                <a:ea typeface="HY엽서M"/>
              </a:rPr>
              <a:t>Line </a:t>
            </a:r>
            <a:r>
              <a:rPr b="0" i="1" lang="zh-CN" sz="6100" spc="-1" strike="noStrike">
                <a:solidFill>
                  <a:srgbClr val="000000"/>
                </a:solidFill>
                <a:latin typeface="HY엽서M"/>
                <a:ea typeface="HY엽서M"/>
              </a:rPr>
              <a:t>형성</a:t>
            </a:r>
            <a:endParaRPr b="0" i="1" lang="en-US" sz="6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33352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각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Line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별로 양방향 리스트 구조로 형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환승역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- Line1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Line 2~5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까지 환승역들을 연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- Line2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Line 3~5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까지 환승역들을 연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- Line3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Line 4~5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까지 환승역들을 연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- Line4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Line 5 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환승역들을 연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13000" y="901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100" spc="-1" strike="noStrike">
                <a:solidFill>
                  <a:srgbClr val="000000"/>
                </a:solidFill>
                <a:latin typeface="HY엽서M"/>
                <a:ea typeface="HY엽서M"/>
              </a:rPr>
              <a:t>경로 탐색</a:t>
            </a:r>
            <a:endParaRPr b="0" i="1" lang="en-US" sz="6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5128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Head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포인터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=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출발역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도착역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같은 라인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출발역부터 도착역 까지 그대로 이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환승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출발역 포인터를 이동시켜 환승 가능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lin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도착역의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lin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을 비교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환승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출발포인터와 도착포인터를 이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출발포인터의 환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line ==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도착포인터의 환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line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13000" y="68580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100" spc="-1" strike="noStrike">
                <a:solidFill>
                  <a:srgbClr val="000000"/>
                </a:solidFill>
                <a:latin typeface="HY엽서M"/>
                <a:ea typeface="HY엽서M"/>
              </a:rPr>
              <a:t>경로 탐색</a:t>
            </a:r>
            <a:endParaRPr b="0" i="1" lang="en-US" sz="6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환승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발포인터를 이동하여 환승역을 탐색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번 환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+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번환승 알고리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환승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발포인터를 이동하여 환승역을 탐색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번 환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+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번환승 알고리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3000" y="75708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100" spc="-1" strike="noStrike">
                <a:solidFill>
                  <a:srgbClr val="000000"/>
                </a:solidFill>
                <a:latin typeface="HY엽서M"/>
                <a:ea typeface="HY엽서M"/>
              </a:rPr>
              <a:t> </a:t>
            </a:r>
            <a:r>
              <a:rPr b="0" i="1" lang="zh-CN" sz="6100" spc="-1" strike="noStrike">
                <a:solidFill>
                  <a:srgbClr val="000000"/>
                </a:solidFill>
                <a:latin typeface="HY엽서M"/>
                <a:ea typeface="HY엽서M"/>
              </a:rPr>
              <a:t>최단 경로</a:t>
            </a:r>
            <a:endParaRPr b="0" i="1" lang="en-US" sz="6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큐 구조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포인터의 이동경로를 큐에 저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큐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ea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값으로 경로를 비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각 역의 이동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환승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825"/>
              </a:spcBef>
              <a:buClr>
                <a:srgbClr val="83c9c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300" spc="-1" strike="noStrike">
                <a:solidFill>
                  <a:srgbClr val="292929"/>
                </a:solidFill>
                <a:latin typeface="굴림"/>
              </a:rPr>
              <a:t>각 경로의 최단 시간 </a:t>
            </a:r>
            <a:r>
              <a:rPr b="1" lang="ko-KR" sz="3300" spc="-1" strike="noStrike">
                <a:solidFill>
                  <a:srgbClr val="292929"/>
                </a:solidFill>
                <a:latin typeface="굴림"/>
              </a:rPr>
              <a:t>+ </a:t>
            </a:r>
            <a:r>
              <a:rPr b="1" lang="ko-KR" sz="3300" spc="-1" strike="noStrike">
                <a:solidFill>
                  <a:srgbClr val="292929"/>
                </a:solidFill>
                <a:latin typeface="굴림"/>
              </a:rPr>
              <a:t>현실성을 고려</a:t>
            </a:r>
            <a:endParaRPr b="0" lang="en-US" sz="33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06:36:49Z</dcterms:created>
  <dc:creator>hs</dc:creator>
  <dc:description/>
  <dc:language>en-US</dc:language>
  <cp:lastModifiedBy>HANSUNG</cp:lastModifiedBy>
  <dcterms:modified xsi:type="dcterms:W3CDTF">2007-06-18T00:22:20Z</dcterms:modified>
  <cp:revision>5</cp:revision>
  <dc:subject/>
  <dc:title>  지하철 경로 찾기</dc:title>
</cp:coreProperties>
</file>